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B9D-5422-48C6-9958-21ACB66B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55D-DEC1-4D71-BEFC-D32A1CDE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FC1-74AE-41C7-AB10-015BCDBA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F8B-D282-4EA0-85B6-4ECBF36F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B4A-374F-4CF8-9B0F-C48DA937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ECD-6EB5-4335-9444-12692EAF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9CF-45E1-403C-BED7-F26CFB58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463-C915-446E-AF7D-E85990E9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AFD-FB97-4F49-976B-CF886048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88E-F6F8-452B-9EFD-398C39B4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D33-F288-4E95-A1EF-F8ED954A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FDA-424A-4805-A362-9442549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2DF1-9603-42AA-825B-8D5B0611D0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7280" y="1447920"/>
            <a:ext cx="284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33960" cy="472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548640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334120"/>
            <a:ext cx="9144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241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01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3809880"/>
            <a:ext cx="1371600" cy="762120"/>
          </a:xfrm>
          <a:prstGeom prst="rect">
            <a:avLst/>
          </a:pr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248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9:17Z</dcterms:modified>
  <cp:revision>189</cp:revision>
  <dc:subject/>
  <dc:title>Slide 1</dc:title>
</cp:coreProperties>
</file>